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581-F961-4EE7-9148-132B7EA7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49E-A6FD-4413-A509-3FA7290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B4E-5769-415C-B200-02286F3C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38C-F61A-4A30-B077-59F2FA0F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A4A-7E16-4FA8-B9E7-817907A5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CED-D4CA-4A21-874E-3BDA8E5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2CB-FE9F-4D11-B781-5CF86927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A05-2BDA-4E44-A594-2457D7A4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A23-58E4-42AE-8BCA-E97503BF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499-E501-4119-A5FB-51AAEB5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BCC-0B47-4100-A218-D47AC6E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7D5-E62F-4C75-AC40-89968ED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D78A-0C3E-4468-B5FE-F18498BCD05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D4B5-AD09-4FFC-AA3A-ED79DA33C9AD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hapter 6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Work and Energy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(continued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5 N cos (3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20.7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: W =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= F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= 20.7 N x 1.5 m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.1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from now on, the more accurate formula to find work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 = F cos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force vector and the displacement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work done on an object by a forc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) = (Force) X (Displa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acting in direction of motion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sitive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acting in opposite direction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gative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erpendicular to motion: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Zer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s any work being done on the food as the waiter carries it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The force is perpendicular to the displac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24200" y="2606760"/>
            <a:ext cx="33256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ctor or Scala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work is calculated by multiplying a force (vector) by displacement (vector), it become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quantity multiplied or divided by a vector quantity makes a scalar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work is a scalar, you don’t need to worry about direction, only whether it’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orces do work on an object, the work done equals the change in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07-06Figure_FIG.jpg"/>
          <p:cNvPicPr/>
          <p:nvPr/>
        </p:nvPicPr>
        <p:blipFill>
          <a:blip r:embed="rId1"/>
          <a:stretch/>
        </p:blipFill>
        <p:spPr>
          <a:xfrm>
            <a:off x="1968480" y="2584440"/>
            <a:ext cx="4483080" cy="282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527880" y="3390480"/>
            <a:ext cx="0" cy="1422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15360" y="366876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BIG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X (short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4720" y="32036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(small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X (LONG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43280" y="3098520"/>
            <a:ext cx="2946240" cy="1701720"/>
          </a:xfrm>
          <a:prstGeom prst="line">
            <a:avLst/>
          </a:prstGeom>
          <a:ln w="38160">
            <a:solidFill>
              <a:srgbClr val="cc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6400" y="55389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wo persons do the same work in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unit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used to measure work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Joule (J) = 1 N-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work do you do in lifting a 6 kg bowling ball a distance of 20 meters by pulling up with a force equal to it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nce weight is 60 Newtons, work done on the bal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Work) = (Force) x (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( 60 N ) x ( 20 m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1200 Jo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26280" y="6108840"/>
            <a:ext cx="1587600" cy="2030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5922" r="-1035" b="2953"/>
          <a:stretch/>
        </p:blipFill>
        <p:spPr>
          <a:xfrm>
            <a:off x="7493040" y="5105520"/>
            <a:ext cx="103500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5922" r="-1035" b="2953"/>
          <a:stretch/>
        </p:blipFill>
        <p:spPr>
          <a:xfrm>
            <a:off x="7497720" y="334800"/>
            <a:ext cx="1035000" cy="99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12160" y="851040"/>
            <a:ext cx="0" cy="477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35840" y="1854000"/>
            <a:ext cx="1396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907320" y="303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20200" y="671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01000" y="4381200"/>
            <a:ext cx="0" cy="711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70160" y="401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ple Problem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work done by a force at a different angl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4480" y="1600200"/>
            <a:ext cx="73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o is pulled backwards by his owner with a force of 25 N in the leash at and angle of 34°.  Fido is pulled back a distance of 1.5 m.  How much work was done by the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44760" y="3616200"/>
            <a:ext cx="4410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nent of force that lies along the same direction of motion is what does the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horizontal com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17840" y="4046040"/>
            <a:ext cx="189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2760" y="5300640"/>
            <a:ext cx="1928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39639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=2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4960" y="5164200"/>
            <a:ext cx="84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62680" y="4842000"/>
            <a:ext cx="5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PSD</cp:lastModifiedBy>
  <dcterms:modified xsi:type="dcterms:W3CDTF">2010-02-02T14:55:19Z</dcterms:modified>
  <cp:revision>241</cp:revision>
  <dc:subject/>
  <dc:title>Slide 1</dc:title>
</cp:coreProperties>
</file>